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8.jpeg" ContentType="image/jpeg"/>
  <Override PartName="/ppt/media/image9.jpeg" ContentType="image/jpeg"/>
  <Override PartName="/ppt/media/image11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5.gif" ContentType="image/gif"/>
  <Override PartName="/ppt/media/image16.jpeg" ContentType="image/jpe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3721-DAAA-432E-91C8-9E24A2FE6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00DD-0B39-48BD-A848-00E72275C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314A-A1EA-466F-8AE8-8C775F4E9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3B95-691E-4E7C-827C-21B2CE77C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5E076-C24E-4C19-8CAD-65A9C469C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F36EA-639A-459A-939B-C61B40792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C8021-A299-4E53-98AC-7EA696A9B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6D39B-94E9-43A6-82AB-D7BD242C1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8B494-AE93-4998-8CEF-61D07FCF9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60FB0-A55A-4EB1-80D3-5D3FF2ED9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EF7B0-1577-4D30-8452-B34BBFEF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C84D-3983-4967-AC46-FE234F7F2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81CC8-AC48-459E-86E1-6B3CD4F0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CD032-2998-4987-BFDC-C0FA3D99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CC4BC-6657-47C4-B3FF-A72ED103D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30457-769E-4E82-81CA-574520D7F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0FA29-EFF8-447A-8BA8-BACCC9D80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B4BEF-E096-4217-99FF-82B2AC48B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0AD61-E368-4A8C-B952-C0E891B00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E6709-5BA8-4CDD-BB16-210447CF7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29BBA-B33A-46D0-A5E1-8D57B923F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CFCE3-EF74-4360-954C-7FB5669C2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3F42-C9DD-4687-83FF-EEEB75217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87A42-475A-44DB-9A23-5DFC03851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A9AA6-A49C-4EDB-929E-940FB06D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BBE28-1ECD-4E8A-8135-7854D580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D7B23-25C8-46A6-90FE-959B54F7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8A12C-18B0-4E99-9D46-C0DCC3C26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A397A-A9CF-43FB-95A8-F9BBDA2C5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82CFD-ADD8-45FE-873F-9539E420E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CCA0-7800-4BAB-88FD-567961A27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0656-3A72-4DFD-86E7-232D843A7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77F4-FEA4-47C4-B59D-40AA9AA8A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AA2A-F360-4574-99BE-2C83D0A7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A929-FC56-4AA3-B5E4-0D4A3D4A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B65A-7E71-4E18-A922-5B05287D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8FE2B78-BBC2-4860-987F-BE02573C5D0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2A35613-6A98-48DD-86E5-D6A0A30B31D3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13A4847-0DFD-431A-B13A-7C62167D889E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66024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Standardized Testing within American Edu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600200" y="5562720"/>
            <a:ext cx="6171840" cy="106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nya Jones, Katie Rodrigue, Bailey Po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test-pencil-240-g-3642457.jpg"/>
          <p:cNvPicPr/>
          <p:nvPr/>
        </p:nvPicPr>
        <p:blipFill>
          <a:blip r:embed="rId1"/>
          <a:stretch/>
        </p:blipFill>
        <p:spPr>
          <a:xfrm>
            <a:off x="838080" y="2209680"/>
            <a:ext cx="3047760" cy="30477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quick-study-standardized-tests-01-af.jpg"/>
          <p:cNvPicPr/>
          <p:nvPr/>
        </p:nvPicPr>
        <p:blipFill>
          <a:blip r:embed="rId2"/>
          <a:stretch/>
        </p:blipFill>
        <p:spPr>
          <a:xfrm>
            <a:off x="4280040" y="2438280"/>
            <a:ext cx="3873240" cy="25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chievement G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being done to close the gap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else needs to be don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228600" y="3347280"/>
            <a:ext cx="4046760" cy="27784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"/>
          <p:cNvPicPr/>
          <p:nvPr/>
        </p:nvPicPr>
        <p:blipFill>
          <a:blip r:embed="rId2"/>
          <a:stretch/>
        </p:blipFill>
        <p:spPr>
          <a:xfrm>
            <a:off x="4648320" y="3048120"/>
            <a:ext cx="4266720" cy="32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5200" spc="-1" strike="noStrike">
                <a:solidFill>
                  <a:srgbClr val="c0504d"/>
                </a:solidFill>
                <a:latin typeface="Calibri (Headings)"/>
              </a:rPr>
              <a:t>Class Activity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Content Placeholder 3" descr="students-in-school.jpg"/>
          <p:cNvPicPr/>
          <p:nvPr/>
        </p:nvPicPr>
        <p:blipFill>
          <a:blip r:embed="rId1"/>
          <a:srcRect l="-10656" t="0" r="-10656" b="0"/>
          <a:stretch/>
        </p:blipFill>
        <p:spPr>
          <a:xfrm>
            <a:off x="76320" y="1676520"/>
            <a:ext cx="8610120" cy="47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chemeClr val="accent2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chemeClr val="accent2"/>
                </a:solidFill>
                <a:latin typeface="Calibri"/>
              </a:rPr>
              <a:t>The Poison Tree” by William Bla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3876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was angry with my frien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76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told my wrath, my wrath did en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76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was angry with my fo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76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told it not, my wrath did gro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76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76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I watered it in fear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76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ight and morning with my tear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76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I sunned it with smile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76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with soft deceitful wi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3480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it grew both day and nigh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80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ll it bore an apple brigh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80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my foe beheld it shi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80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he knew that it was min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80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80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into my garden sto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80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the night had veiled the pol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80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he morning glad I s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80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y foe outstretched beneath the tre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8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c0504d"/>
                </a:solidFill>
                <a:latin typeface="Calibri"/>
              </a:rPr>
              <a:t>Alternative Methods of Assessmen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796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313920" indent="-313920">
              <a:lnSpc>
                <a:spcPct val="100000"/>
              </a:lnSpc>
              <a:spcBef>
                <a:spcPts val="51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andardized testing continues to play a significant role within American educ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51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eferred method of evaluation; effective indicator of student performan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51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rowing number of schools, however, have incorporated performance-based assessm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51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nior projects, graduation portfoli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51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ternative methods in different subjects- Oral narration, open-ended essay responses, literary analysis, critique of science experimentation, problem solving, problem solving and practical applic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3" descr="SENIORproject_Large.jpg"/>
          <p:cNvPicPr/>
          <p:nvPr/>
        </p:nvPicPr>
        <p:blipFill>
          <a:blip r:embed="rId1"/>
          <a:stretch/>
        </p:blipFill>
        <p:spPr>
          <a:xfrm>
            <a:off x="5400720" y="3962520"/>
            <a:ext cx="3285720" cy="24602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j0439493.jpg"/>
          <p:cNvPicPr/>
          <p:nvPr/>
        </p:nvPicPr>
        <p:blipFill>
          <a:blip r:embed="rId2"/>
          <a:stretch/>
        </p:blipFill>
        <p:spPr>
          <a:xfrm>
            <a:off x="5105520" y="1600200"/>
            <a:ext cx="3780360" cy="22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chemeClr val="accent2"/>
                </a:solidFill>
                <a:latin typeface="Calibri"/>
              </a:rPr>
              <a:t>Future of Standardized Tes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24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7320" indent="-337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a 50-state survey conducted in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ducation Wee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0800" indent="-280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9 states required competency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0800" indent="-280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5 states required exit assessment for gradu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0800" indent="-280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 states promotional “gates” tes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0800" indent="-280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7 states had some other assessment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though a number of schools have integrated alternative methods of assessment, the role of standardized testing plays a significant role in American education and continues to do so toda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3" descr="bubbles_side.jpg"/>
          <p:cNvPicPr/>
          <p:nvPr/>
        </p:nvPicPr>
        <p:blipFill>
          <a:blip r:embed="rId1"/>
          <a:stretch/>
        </p:blipFill>
        <p:spPr>
          <a:xfrm>
            <a:off x="1447920" y="4694400"/>
            <a:ext cx="5790960" cy="19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chemeClr val="accent2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is standardized testing? Role in schools and education toda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udent, teacher, and community perspec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sting in urban vs. suburban communities- The Achievement Ga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ternative methods of tes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3" descr="bubbles_side.jpg"/>
          <p:cNvPicPr/>
          <p:nvPr/>
        </p:nvPicPr>
        <p:blipFill>
          <a:blip r:embed="rId1"/>
          <a:stretch/>
        </p:blipFill>
        <p:spPr>
          <a:xfrm>
            <a:off x="5181480" y="1417680"/>
            <a:ext cx="2690640" cy="1782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toast2132264.jpg"/>
          <p:cNvPicPr/>
          <p:nvPr/>
        </p:nvPicPr>
        <p:blipFill>
          <a:blip r:embed="rId2"/>
          <a:stretch/>
        </p:blipFill>
        <p:spPr>
          <a:xfrm>
            <a:off x="4887720" y="3657600"/>
            <a:ext cx="3294000" cy="246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c0504d"/>
                </a:solidFill>
                <a:latin typeface="Calibri"/>
              </a:rPr>
              <a:t>What is Standardized  Test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38760" indent="-338760">
              <a:lnSpc>
                <a:spcPct val="100000"/>
              </a:lnSpc>
              <a:spcBef>
                <a:spcPts val="51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ultiple choi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8760" indent="-338760">
              <a:lnSpc>
                <a:spcPct val="100000"/>
              </a:lnSpc>
              <a:spcBef>
                <a:spcPts val="51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ften scored quickly and easi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8760" indent="-338760">
              <a:lnSpc>
                <a:spcPct val="100000"/>
              </a:lnSpc>
              <a:spcBef>
                <a:spcPts val="51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bjecti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8760" indent="-338760">
              <a:lnSpc>
                <a:spcPct val="100000"/>
              </a:lnSpc>
              <a:spcBef>
                <a:spcPts val="51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dministered, scored, and interpreted in a </a:t>
            </a:r>
            <a:r>
              <a:rPr b="0" lang="en-US" sz="2600" spc="-1" strike="noStrike">
                <a:solidFill>
                  <a:srgbClr val="c0504d"/>
                </a:solidFill>
                <a:latin typeface="Calibri"/>
              </a:rPr>
              <a:t>“standard”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n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8760" indent="-338760">
              <a:lnSpc>
                <a:spcPct val="100000"/>
              </a:lnSpc>
              <a:spcBef>
                <a:spcPts val="51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Questions, conditions, scoring, evaluation are </a:t>
            </a:r>
            <a:r>
              <a:rPr b="0" lang="en-US" sz="2600" spc="-1" strike="noStrike">
                <a:solidFill>
                  <a:srgbClr val="c0504d"/>
                </a:solidFill>
                <a:latin typeface="Calibri"/>
              </a:rPr>
              <a:t>consist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8760" indent="-338760">
              <a:lnSpc>
                <a:spcPct val="100000"/>
              </a:lnSpc>
              <a:spcBef>
                <a:spcPts val="51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dministered in the same manner to all participa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8760" indent="-338760">
              <a:lnSpc>
                <a:spcPct val="100000"/>
              </a:lnSpc>
              <a:spcBef>
                <a:spcPts val="51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pposite – 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Non-standardized t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4" descr="cartoon_large_intro1.gif"/>
          <p:cNvPicPr/>
          <p:nvPr/>
        </p:nvPicPr>
        <p:blipFill>
          <a:blip r:embed="rId1"/>
          <a:stretch/>
        </p:blipFill>
        <p:spPr>
          <a:xfrm>
            <a:off x="4495680" y="1600200"/>
            <a:ext cx="4462920" cy="40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500" spc="-1" strike="noStrike">
                <a:solidFill>
                  <a:schemeClr val="accent2"/>
                </a:solidFill>
                <a:latin typeface="Calibri"/>
              </a:rPr>
              <a:t>Student, Parent, and Teacher Perspectives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4" descr="images.jpeg"/>
          <p:cNvPicPr/>
          <p:nvPr/>
        </p:nvPicPr>
        <p:blipFill>
          <a:blip r:embed="rId1"/>
          <a:stretch/>
        </p:blipFill>
        <p:spPr>
          <a:xfrm>
            <a:off x="1219320" y="2133720"/>
            <a:ext cx="6400440" cy="42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c0504d"/>
                </a:solidFill>
                <a:latin typeface="Calibri"/>
              </a:rPr>
              <a:t>How Students Fe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624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ressfu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on’t take it seriousl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on’t do their best because they feel like they are under pressu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ushed to finish based on when their peers finish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3" descr="kid-taking-a-test2.jpg"/>
          <p:cNvPicPr/>
          <p:nvPr/>
        </p:nvPicPr>
        <p:blipFill>
          <a:blip r:embed="rId1"/>
          <a:stretch/>
        </p:blipFill>
        <p:spPr>
          <a:xfrm>
            <a:off x="4320000" y="1905120"/>
            <a:ext cx="4366440" cy="32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c0504d"/>
                </a:solidFill>
                <a:latin typeface="Calibri"/>
              </a:rPr>
              <a:t>How Parents Fe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076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n’t understand how students benefit from tes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ores do not matter as long as they put in best eff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od practice for future tests such as SAT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3" descr="inside3.jpg"/>
          <p:cNvPicPr/>
          <p:nvPr/>
        </p:nvPicPr>
        <p:blipFill>
          <a:blip r:embed="rId1"/>
          <a:stretch/>
        </p:blipFill>
        <p:spPr>
          <a:xfrm>
            <a:off x="4444920" y="1905120"/>
            <a:ext cx="4698720" cy="35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c0504d"/>
                </a:solidFill>
                <a:latin typeface="Calibri"/>
              </a:rPr>
              <a:t>How Teachers Fe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796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kes up their teaching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kes away their ability to teach with crea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y teach test taking strateg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3" descr="6teachers_t607.jpeg"/>
          <p:cNvPicPr/>
          <p:nvPr/>
        </p:nvPicPr>
        <p:blipFill>
          <a:blip r:embed="rId1"/>
          <a:stretch/>
        </p:blipFill>
        <p:spPr>
          <a:xfrm>
            <a:off x="5105520" y="1600200"/>
            <a:ext cx="3595680" cy="2541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test.jpg"/>
          <p:cNvPicPr/>
          <p:nvPr/>
        </p:nvPicPr>
        <p:blipFill>
          <a:blip r:embed="rId2"/>
          <a:stretch/>
        </p:blipFill>
        <p:spPr>
          <a:xfrm>
            <a:off x="5410080" y="4481640"/>
            <a:ext cx="289512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848360" cy="86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chievement G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320" y="86832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ifference in standardized test performance between white students and minority studen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gnificantly narrowed between 1970 and 1988, but again widened and remains a major concern toda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Urban schools face a much lower chance of receiving good test scor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5" descr=""/>
          <p:cNvPicPr/>
          <p:nvPr/>
        </p:nvPicPr>
        <p:blipFill>
          <a:blip r:embed="rId1"/>
          <a:stretch/>
        </p:blipFill>
        <p:spPr>
          <a:xfrm>
            <a:off x="4724280" y="3657600"/>
            <a:ext cx="4208040" cy="3008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"/>
          <p:cNvPicPr/>
          <p:nvPr/>
        </p:nvPicPr>
        <p:blipFill>
          <a:blip r:embed="rId2"/>
          <a:stretch/>
        </p:blipFill>
        <p:spPr>
          <a:xfrm>
            <a:off x="457200" y="4006440"/>
            <a:ext cx="3657240" cy="265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chievement G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62520" y="11430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u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in Schoo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w educational standar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extra hel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uality of teach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utside of schoo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verty/Bad neighborhoo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udent mo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ereotyp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304920" y="2895480"/>
            <a:ext cx="4266720" cy="33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  <Words>551</Words>
  <Paragraphs>8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9T20:15:35Z</dcterms:created>
  <dc:creator>Tanya Jones</dc:creator>
  <dc:description/>
  <dc:language>en-US</dc:language>
  <cp:lastModifiedBy>Tanya Jones</cp:lastModifiedBy>
  <dcterms:modified xsi:type="dcterms:W3CDTF">2010-11-29T20:28:32Z</dcterms:modified>
  <cp:revision>8</cp:revision>
  <dc:subject/>
  <dc:title>Standardized Testing within American Educ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14</vt:r8>
  </property>
</Properties>
</file>